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D16-ECF4-403D-B4BE-39736806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C53-3F98-4B36-A9D4-855B63DF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7020-734D-4CF5-B565-AB76A381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8D4-2186-4F89-A8D1-B45A3F65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FB0-0FA8-4875-B5CA-8BA2B827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0551-51F4-4FE7-9905-7199F679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18A-A3B6-46F6-B654-15A438A1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0F9-AD6B-4511-BE7A-E9D3590B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A77-1629-4331-8562-D6EFC5CA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849-CD1A-40BF-89D8-A9D346EE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7D2-3B76-4808-9441-3BD50CEA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CE5-CD9A-42AE-BBE6-42360BEB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AE71-A30E-467F-BAD2-0E6A0C094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poh&#345;eb+v+kostele&amp;um=1&amp;hl=cs&amp;sa=N&amp;biw=1008&amp;bih=551&amp;tbm=isch&amp;tbnid=3U4LJLGxqlXMjM:&amp;imgrefurl=http://kostelyvyskovsko.hu.cz/sluzby-pro-vas/&amp;docid=s1euT7gkQw7nMM&amp;imgurl=http://kostelyvyskovsko.hu.cz/wp-content/uploads/P1030513-poh%2525C5%252599eb-kostel.jpg&amp;w=1280&amp;h=960&amp;ei=lb5wT7ahFIyQ4gSt3MW_Ag&amp;zoom=1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google.cz/imgres?q=poh&#345;eb+v+kostele&amp;start=91&amp;um=1&amp;hl=cs&amp;sa=N&amp;biw=1008&amp;bih=551&amp;tbm=isch&amp;tbnid=O9V-AAUoYywi0M:&amp;imgrefurl=http://zpravy.ihned.cz/cesko/c1-54366740-se-zastrelenym-romem-se-v-tanvaldu-loucily-stovky-lidi-obrad-probehl-bez-incidentu&amp;docid=vV5NtKGZjKrc2M&amp;imgurl=http://img.ihned.cz/attachment.php/360/36002360/aosu345BC7HJMOl6QWbefhz1Tw2ARVmn/tanvald2.jpg&amp;w=600&amp;h=338&amp;ei=4b5wT4WXMczQ4QSx0NG_Ag&amp;zoom=1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www.google.cz/imgres?q=poh&#345;eb+v+kostele&amp;start=91&amp;um=1&amp;hl=cs&amp;sa=N&amp;biw=1008&amp;bih=551&amp;tbm=isch&amp;tbnid=iwhvZY721tm9QM:&amp;imgrefurl=http://www.pieta-pohrebnisluzba.com/&amp;docid=94XOkgOa0L3rMM&amp;imgurl=http://www.pieta-pohrebnisluzba.com/var/ak/20427/203381-rakev.jpg&amp;w=365&amp;h=274&amp;ei=4b5wT4WXMczQ4QSx0NG_Ag&amp;zoom=1" TargetMode="External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krematorium&amp;start=92&amp;um=1&amp;hl=cs&amp;sa=N&amp;biw=1008&amp;bih=551&amp;addh=36&amp;tbm=isch&amp;tbnid=SEEJJDbmgV_33M:&amp;imgrefurl=http://www.rekreace.jannemec.com/tips/165.php&amp;docid=4KO2DtWmwY1DhM&amp;imgurl=http://www.rekreace.jannemec.com/tips/165.jpg&amp;w=700&amp;h=514&amp;ei=icFwT7fxLYSH4gSUtqy_Ag&amp;zoom=1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google.cz/imgres?q=ob&#345;ad+v+krematoriu&amp;start=197&amp;um=1&amp;hl=cs&amp;sa=N&amp;biw=1008&amp;bih=551&amp;tbm=isch&amp;tbnid=xwOyYSffIlxx4M:&amp;imgrefurl=http://www.sedmicka.cz/brno-vyskov/article%3Fid%3D71083&amp;docid=hlEycNvKPS5TxM&amp;imgurl=http://img.mf.cz/874/482/BO-jss-2910-120x100-kremat-plamen.JPG&amp;w=600&amp;h=424&amp;ei=v8JwT7rAH-HP4QTn3dG_Ag&amp;zoom=1" TargetMode="External"/><Relationship Id="rId4" Type="http://schemas.openxmlformats.org/officeDocument/2006/relationships/hyperlink" Target="http://www.google.cz/imgres?q=rozptylov&#225;+lou&#269;ka&amp;um=1&amp;hl=cs&amp;sa=N&amp;biw=1008&amp;bih=551&amp;tbm=isch&amp;tbnid=HMMVwACikL-YHM:&amp;imgrefurl=http://www.edb.cz/Detail.aspx%3FL%3DCZ%26SML%3D5109340010000&amp;docid=cpq2BJ-Q14GNjM&amp;imgurl=http://www.edb.cz/grmat/obr/loucka1-O.jpg&amp;w=726&amp;h=543&amp;ei=FMZwT9GOC7PP4QSr7qm_Ag&amp;zoom=1" TargetMode="External"/><Relationship Id="rId5" Type="http://schemas.openxmlformats.org/officeDocument/2006/relationships/hyperlink" Target="http://www.google.cz/imgres?q=ob&#345;ad+v+krematoriu&amp;start=197&amp;um=1&amp;hl=cs&amp;sa=N&amp;biw=1008&amp;bih=551&amp;tbm=isch&amp;tbnid=wmuKAMnS3-JfWM:&amp;imgrefurl=http://marnosti.blogspot.com/2011_09_01_archive.html&amp;docid=iUQ58rwGOb80DM&amp;imgurl=http://2.bp.blogspot.com/-9QBhYhQdpXc/ToLz_R-EErI/AAAAAAAAB2M/IbTdKryJg1o/s1600/dedovi-Pepikovi-detail-kytky.jpg&amp;w=356&amp;h=336&amp;ei=ccJwT57EJ-HT4QTd-M2_Ag&amp;zoom=1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www.google.cz/imgres?q=rozptylov&#225;+lou&#269;ka&amp;um=1&amp;hl=cs&amp;sa=N&amp;biw=1008&amp;bih=551&amp;tbm=isch&amp;tbnid=HMMVwACikL-YHM:&amp;imgrefurl=http://www.edb.cz/Detail.aspx%3FL%3DCZ%26SML%3D5109340010000&amp;docid=cpq2BJ-Q14GNjM&amp;imgurl=http://www.edb.cz/grmat/obr/loucka1-O.jpg&amp;w=726&amp;h=543&amp;ei=FMZwT9GOC7PP4QSr7qm_Ag&amp;zoom=1" TargetMode="External"/><Relationship Id="rId8" Type="http://schemas.openxmlformats.org/officeDocument/2006/relationships/hyperlink" Target="http://www.google.cz/imgres?q=ob&#345;ad+v+krematoriu&amp;start=293&amp;um=1&amp;hl=cs&amp;sa=N&amp;biw=1008&amp;bih=551&amp;tbm=isch&amp;tbnid=wdyU5Xfqc6hQeM:&amp;imgrefurl=http://www.mediafax.cz/domaci/3195947-Lide-se-v-Brne-rozloucili-s-exministrem-Bohumilem-Fiserem&amp;docid=6csUS4yOJRNVHM&amp;imgurl=http://storage0.dms.mediafax.cz/media/1/1/1688/3195947/2/fiser1.jpg%253Fwidth%253D300%2526height%253D300&amp;w=300&amp;h=224&amp;ei=1cJwT8udEOni4QSlv5i_Ag&amp;zoom=1" TargetMode="External"/><Relationship Id="rId9" Type="http://schemas.openxmlformats.org/officeDocument/2006/relationships/image" Target="../media/image26.jpeg"/><Relationship Id="rId10" Type="http://schemas.openxmlformats.org/officeDocument/2006/relationships/hyperlink" Target="http://www.google.cz/imgres?q=urna&amp;um=1&amp;hl=cs&amp;sa=N&amp;biw=1008&amp;bih=551&amp;tbm=isch&amp;tbnid=0Td35temVSslXM:&amp;imgrefurl=http://www.makovy.cz/urny/urny-kovove&amp;docid=s3r5_nOvJXwdVM&amp;imgurl=http://www.makovy.cz/wp-content/gallery/urny-kovove/urna5.jpg&amp;w=406&amp;h=579&amp;ei=DcRwT8vVCLTR4QTe2PS_Ag&amp;zoom=1" TargetMode="External"/><Relationship Id="rId11" Type="http://schemas.openxmlformats.org/officeDocument/2006/relationships/hyperlink" Target="http://www.google.cz/imgres?q=kolumb&#225;rium&amp;um=1&amp;hl=cs&amp;sa=N&amp;biw=1008&amp;bih=551&amp;tbm=isch&amp;tbnid=ePOYj_sCoym5VM:&amp;imgrefurl=http://www.durst.cz/katalog/kolumbaria/&amp;docid=SlOVXy0Rj118QM&amp;imgurl=http://www.durst.cz/katalog-obrazku/skupiny/charon-II-detail.jpg&amp;w=700&amp;h=525&amp;ei=ZcNwT4d95_fhBNKOkb8C&amp;zoom=1" TargetMode="External"/><Relationship Id="rId12" Type="http://schemas.openxmlformats.org/officeDocument/2006/relationships/image" Target="../media/image27.jpeg"/><Relationship Id="rId13" Type="http://schemas.openxmlformats.org/officeDocument/2006/relationships/hyperlink" Target="http://www.google.cz/imgres?q=urna&amp;um=1&amp;hl=cs&amp;sa=N&amp;biw=1008&amp;bih=551&amp;tbm=isch&amp;tbnid=0Td35temVSslXM:&amp;imgrefurl=http://www.makovy.cz/urny/urny-kovove&amp;docid=s3r5_nOvJXwdVM&amp;imgurl=http://www.makovy.cz/wp-content/gallery/urny-kovove/urna5.jpg&amp;w=406&amp;h=579&amp;ei=DcRwT8vVCLTR4QTe2PS_Ag&amp;zoom=1" TargetMode="External"/><Relationship Id="rId14" Type="http://schemas.openxmlformats.org/officeDocument/2006/relationships/image" Target="../media/image28.jpeg"/><Relationship Id="rId15" Type="http://schemas.openxmlformats.org/officeDocument/2006/relationships/hyperlink" Target="http://www.google.cz/imgres?q=rozptylov&#225;+lou&#269;ka&amp;um=1&amp;hl=cs&amp;sa=N&amp;biw=1008&amp;bih=551&amp;tbm=isch&amp;tbnid=HMMVwACikL-YHM:&amp;imgrefurl=http://www.edb.cz/Detail.aspx%3FL%3DCZ%26SML%3D5109340010000&amp;docid=cpq2BJ-Q14GNjM&amp;imgurl=http://www.edb.cz/grmat/obr/loucka1-O.jpg&amp;w=726&amp;h=543&amp;ei=FMZwT9GOC7PP4QSr7qm_Ag&amp;zoom=1" TargetMode="External"/><Relationship Id="rId16" Type="http://schemas.openxmlformats.org/officeDocument/2006/relationships/image" Target="../media/image29.jpe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hyperlink" Target="http://www.google.cz/imgres?q=modlitba&amp;um=1&amp;hl=cs&amp;sa=N&amp;biw=1008&amp;bih=551&amp;tbm=isch&amp;tbnid=ewB33Z7m-VNqaM:&amp;imgrefurl=http://vtm.zive.cz/aktuality/modlitba-k-bohu-jako-hovor-s-prateli&amp;docid=b98Sqt38D82uRM&amp;imgurl=http://vtm.zive.cz/files/imagecache/dust_filerenderer_big/upload/aktuality/modlitba_49e71cd961.jpg&amp;w=640&amp;h=480&amp;ei=1MdwT9Rfg_ThBNXVsL8C&amp;zoom=1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www.google.cz/imgres?q=modlitba&amp;um=1&amp;hl=cs&amp;sa=N&amp;biw=1008&amp;bih=551&amp;tbm=isch&amp;tbnid=pZSfjydphsSatM:&amp;imgrefurl=http://www.frantiskanskemisie.cz/modlitby/&amp;docid=BFP84PTZDDsBUM&amp;imgurl=http://www.frantiskanskemisie.cz/image/page/modlitba-10.jpg&amp;w=250&amp;h=373&amp;ei=1MdwT9Rfg_ThBNXVsL8C&amp;zoom=1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www.google.cz/imgres?q=du&#353;i&#269;ky&amp;um=1&amp;hl=cs&amp;sa=N&amp;biw=1008&amp;bih=551&amp;tbm=isch&amp;tbnid=Y8EJ3sMoUJH4pM:&amp;imgrefurl=http://www.senorita.cz/dusicky-nebo-halloween.html&amp;docid=tMs4b6T9nuO3uM&amp;imgurl=http://www.senorita.cz/images/906972candlesatacementary_200x1000.jpg&amp;w=200&amp;h=267&amp;ei=ZMlwT9-3IoSH4gSUtqy_Ag&amp;zoom=1" TargetMode="External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google.cz/imgres?q=koledov&#225;n&#237;+du&#353;i&#269;ky&amp;um=1&amp;hl=cs&amp;biw=1008&amp;bih=551&amp;tbm=isch&amp;tbnid=A9Ce8rcuiC2jIM:&amp;imgrefurl=http://fanmovie.cz/mimokino/uchyluvkoutek/halloweenska-noc-trick%25C2%25B4r-treat-%25E2%2580%2593-recenze/&amp;docid=SQyKoEV5JuihPM&amp;imgurl=http://fanmovie.cz/wp-content/uploads/trt1.JPG&amp;w=697&amp;h=466&amp;ei=G9FwT9LKBsv04QTms8W_Ag&amp;zoom=1" TargetMode="External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ne&#353;&#357;astn&#253;+&#269;lovek&amp;start=206&amp;um=1&amp;hl=cs&amp;biw=1008&amp;bih=551&amp;addh=36&amp;tbm=isch&amp;tbnid=sJ11-ziDzHQwkM:&amp;imgrefurl=http://www.zdenkablechova.cz/poselstvi-channelingem/zajimava-poselstvi/28_-tyden-2011&amp;docid=jiwDV4CbfW1xjM&amp;imgurl=http://www.zdenkablechova.cz/userFiles/srdce-v-oblacich.jpg&amp;w=464&amp;h=444&amp;ei=frZwT9aeFMrZ4QSliJS_Ag&amp;zoom=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hyperlink" Target="http://www.google.cz/imgres?q=&#269;lov&#283;k+v+nemocnici&amp;um=1&amp;hl=cs&amp;biw=1008&amp;bih=551&amp;tbm=isch&amp;tbnid=hwO9KnPy1yKf-M:&amp;imgrefurl=http://zpravy.ihned.cz/c1-54424690-ruzne-sikovne-nemocnice-ve-vfn-leci-mrtvici-16-dni-na-bulovce-jen-necelych-8-5&amp;docid=__CPf6kgnM9EYM&amp;imgurl=http://img.ihned.cz/attachment.php/340/36145340/iostuv3458DEJKMklcdefghxz01Uw29m/USA_CR_ZDRAVI_STADLER_946.jpg&amp;w=600&amp;h=338&amp;ei=zrhwT5iBNOrQ4QSIiLy_Ag&amp;zoom=1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www.google.cz/imgres?q=st&#225;&#345;&#237;&amp;um=1&amp;hl=cs&amp;biw=1008&amp;bih=551&amp;tbm=isch&amp;tbnid=TiPRI9BmTVoDPM:&amp;imgrefurl=http://aktualne.centrum.cz/kultura/film/recenze/clanek.phtml%3Fid%3D653900&amp;docid=4Qbenb-XYiDjLM&amp;imgurl=http://img.aktualne.centrum.cz/273/34/2733469-baba.jpg&amp;w=478&amp;h=277&amp;ei=ArlwT6DHA83E4gTC172_Ag&amp;zoom=1" TargetMode="External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sv&#237;&#269;ka&amp;um=1&amp;hl=cs&amp;sa=N&amp;biw=1008&amp;bih=551&amp;tbm=isch&amp;tbnid=OulN3nwHk2eZVM:&amp;imgrefurl=http://fiiliipoo.blog.cz/1104/o-svickach&amp;docid=fZZoT-NJsnBF4M&amp;imgurl=http://nd04.jxs.cz/368/349/a6d5e163f7_74997568_o2.jpg&amp;w=1024&amp;h=768&amp;ei=MM9wT62sNeHk4QTW4cS_Ag&amp;zoom=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91320" y="304920"/>
            <a:ext cx="28908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„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DUŠIČKY“ …aneb den velkých vzpomínek na ty, kdo tu žili s ná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komarek_47_smutny_andel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396216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65320" y="40021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685800"/>
            <a:ext cx="3733920" cy="2666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16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08520" y="43815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0510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685800"/>
            <a:ext cx="3875040" cy="2666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0520" y="239076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3809880"/>
            <a:ext cx="3733920" cy="2514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rg_hi" descr=""/>
          <p:cNvPicPr/>
          <p:nvPr/>
        </p:nvPicPr>
        <p:blipFill>
          <a:blip r:embed="rId7"/>
          <a:stretch/>
        </p:blipFill>
        <p:spPr>
          <a:xfrm>
            <a:off x="4724280" y="3809880"/>
            <a:ext cx="3810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023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6320" y="2846520"/>
            <a:ext cx="18716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9145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533520"/>
            <a:ext cx="2895480" cy="2819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97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973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51040" y="3498840"/>
            <a:ext cx="1793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863800"/>
            <a:ext cx="9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dd4b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8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905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4b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7920" y="2114640"/>
            <a:ext cx="1650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76552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0400" y="3581280"/>
            <a:ext cx="2639880" cy="2514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20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09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4b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29360" y="2862360"/>
            <a:ext cx="17143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9718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s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28600" y="3581280"/>
            <a:ext cx="2895480" cy="2514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052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43200" y="4246560"/>
            <a:ext cx="1928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9433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013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4b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94000" y="356400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images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943600" y="3581280"/>
            <a:ext cx="2960640" cy="2522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58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533520" y="1523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7480" y="2952720"/>
            <a:ext cx="13431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4796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s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429000" y="53352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193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981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86440" y="3598920"/>
            <a:ext cx="18572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images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943600" y="533520"/>
            <a:ext cx="2895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rot="20279400">
            <a:off x="2128320" y="1439640"/>
            <a:ext cx="4248360" cy="347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65320" y="40021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8520" y="43815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0510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0520" y="239076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-747720"/>
            <a:ext cx="8101080" cy="81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65320" y="40021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16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08520" y="43815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0510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0520" y="239076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rg_hi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3733920" cy="2819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rg_hi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3809880" cy="2819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057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29080" y="29383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3657600"/>
            <a:ext cx="3733920" cy="2666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155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371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57400" y="2249640"/>
            <a:ext cx="13147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4462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53080" y="3657600"/>
            <a:ext cx="1905120" cy="2666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90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905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79920" y="3728880"/>
            <a:ext cx="1143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7939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8320" y="3657600"/>
            <a:ext cx="1828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65320" y="40021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16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8520" y="43815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0510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0520" y="239076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3360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rg_hi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3581280" cy="2590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58128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rg_hi" descr=""/>
          <p:cNvPicPr/>
          <p:nvPr/>
        </p:nvPicPr>
        <p:blipFill>
          <a:blip r:embed="rId2"/>
          <a:stretch/>
        </p:blipFill>
        <p:spPr>
          <a:xfrm>
            <a:off x="4876920" y="609480"/>
            <a:ext cx="3581280" cy="2819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3148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il_fi" descr=""/>
          <p:cNvPicPr/>
          <p:nvPr/>
        </p:nvPicPr>
        <p:blipFill>
          <a:blip r:embed="rId3"/>
          <a:stretch/>
        </p:blipFill>
        <p:spPr>
          <a:xfrm flipH="1">
            <a:off x="4876920" y="3657600"/>
            <a:ext cx="3504960" cy="2571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25296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rg_hi" descr=""/>
          <p:cNvPicPr/>
          <p:nvPr/>
        </p:nvPicPr>
        <p:blipFill>
          <a:blip r:embed="rId4"/>
          <a:stretch/>
        </p:blipFill>
        <p:spPr>
          <a:xfrm>
            <a:off x="838080" y="609480"/>
            <a:ext cx="3505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65320" y="40021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16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8520" y="43815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0510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0520" y="239076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6232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5764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933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257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375080"/>
            <a:ext cx="9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halloween-ve-vlnach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3657600" cy="290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062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79480" y="4154400"/>
            <a:ext cx="19656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9782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762120"/>
            <a:ext cx="2990880" cy="2361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25764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rg_hi" descr=""/>
          <p:cNvPicPr/>
          <p:nvPr/>
        </p:nvPicPr>
        <p:blipFill>
          <a:blip r:embed="rId4"/>
          <a:stretch/>
        </p:blipFill>
        <p:spPr>
          <a:xfrm>
            <a:off x="5257800" y="3962520"/>
            <a:ext cx="2933640" cy="2209680"/>
          </a:xfrm>
          <a:prstGeom prst="rect">
            <a:avLst/>
          </a:prstGeom>
          <a:ln w="0">
            <a:noFill/>
          </a:ln>
        </p:spPr>
      </p:pic>
      <p:pic>
        <p:nvPicPr>
          <p:cNvPr id="241" name="halloween_ilustracni_foto_denik_clanek_hp" descr=""/>
          <p:cNvPicPr/>
          <p:nvPr/>
        </p:nvPicPr>
        <p:blipFill>
          <a:blip r:embed="rId5"/>
          <a:stretch/>
        </p:blipFill>
        <p:spPr>
          <a:xfrm>
            <a:off x="9144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65320" y="40021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16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08520" y="43815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0510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0520" y="239076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232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5764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4824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rg_hi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3886200" cy="44193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66688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il_fi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38102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65320" y="40021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16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08520" y="43815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06864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0520" y="239076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6232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5764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146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il_fi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80360" cy="61912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8148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Katechetické a pedagogické centru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iskupství královéhradeckého, 2012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Určeno pouze pro výukové účel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771640" y="4653000"/>
            <a:ext cx="3889440" cy="7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200400" y="2056320"/>
            <a:ext cx="95583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8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51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00640" y="3419640"/>
            <a:ext cx="16430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7669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3886200"/>
            <a:ext cx="2857320" cy="2590920"/>
          </a:xfrm>
          <a:prstGeom prst="rect">
            <a:avLst/>
          </a:prstGeom>
          <a:ln w="0">
            <a:noFill/>
          </a:ln>
        </p:spPr>
      </p:pic>
      <p:pic>
        <p:nvPicPr>
          <p:cNvPr id="49" name="ctyrlistek(1)" descr=""/>
          <p:cNvPicPr/>
          <p:nvPr/>
        </p:nvPicPr>
        <p:blipFill>
          <a:blip r:embed="rId3"/>
          <a:stretch/>
        </p:blipFill>
        <p:spPr>
          <a:xfrm>
            <a:off x="4952880" y="3886200"/>
            <a:ext cx="2819520" cy="2590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19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mages" descr=""/>
          <p:cNvPicPr/>
          <p:nvPr/>
        </p:nvPicPr>
        <p:blipFill>
          <a:blip r:embed="rId4"/>
          <a:stretch/>
        </p:blipFill>
        <p:spPr>
          <a:xfrm>
            <a:off x="2590920" y="609480"/>
            <a:ext cx="3809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mutne_by_kittymummy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3809880" cy="5105160"/>
          </a:xfrm>
          <a:prstGeom prst="rect">
            <a:avLst/>
          </a:prstGeom>
          <a:ln w="0">
            <a:noFill/>
          </a:ln>
        </p:spPr>
      </p:pic>
      <p:pic>
        <p:nvPicPr>
          <p:cNvPr id="54" name="113-0-smutok" descr=""/>
          <p:cNvPicPr/>
          <p:nvPr/>
        </p:nvPicPr>
        <p:blipFill>
          <a:blip r:embed="rId2"/>
          <a:stretch/>
        </p:blipFill>
        <p:spPr>
          <a:xfrm>
            <a:off x="4419720" y="762120"/>
            <a:ext cx="39621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421000"/>
            <a:ext cx="3609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0520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l_fi" descr=""/>
          <p:cNvPicPr/>
          <p:nvPr/>
        </p:nvPicPr>
        <p:blipFill>
          <a:blip r:embed="rId1"/>
          <a:stretch/>
        </p:blipFill>
        <p:spPr>
          <a:xfrm>
            <a:off x="5791320" y="2590920"/>
            <a:ext cx="3105000" cy="2104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2440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es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3364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s" descr=""/>
          <p:cNvPicPr/>
          <p:nvPr/>
        </p:nvPicPr>
        <p:blipFill>
          <a:blip r:embed="rId3"/>
          <a:stretch/>
        </p:blipFill>
        <p:spPr>
          <a:xfrm>
            <a:off x="3429000" y="380880"/>
            <a:ext cx="2209680" cy="3048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9060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l_fi" descr=""/>
          <p:cNvPicPr/>
          <p:nvPr/>
        </p:nvPicPr>
        <p:blipFill>
          <a:blip r:embed="rId4"/>
          <a:stretch/>
        </p:blipFill>
        <p:spPr>
          <a:xfrm>
            <a:off x="3429000" y="3581280"/>
            <a:ext cx="2209680" cy="304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7148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l_fi" descr=""/>
          <p:cNvPicPr/>
          <p:nvPr/>
        </p:nvPicPr>
        <p:blipFill>
          <a:blip r:embed="rId5"/>
          <a:stretch/>
        </p:blipFill>
        <p:spPr>
          <a:xfrm>
            <a:off x="5791320" y="4724280"/>
            <a:ext cx="3124080" cy="1905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147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4240" y="43689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0639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3808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20574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209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36960" y="3014640"/>
            <a:ext cx="21085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228600" y="29718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s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72240" y="380880"/>
            <a:ext cx="314316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l_fi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334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6220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kriz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flipH="1">
            <a:off x="394560" y="1700280"/>
            <a:ext cx="38163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062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6560" y="4119480"/>
            <a:ext cx="19652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9782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36560" y="349560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762120"/>
            <a:ext cx="6324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956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rg_hi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8988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Nebe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9:32:02Z</dcterms:created>
  <dc:creator>Katechetické a pedagogické centrum</dc:creator>
  <dc:description/>
  <dc:language>en-US</dc:language>
  <cp:lastModifiedBy>jkobylikova</cp:lastModifiedBy>
  <dcterms:modified xsi:type="dcterms:W3CDTF">2012-07-06T14:03:11Z</dcterms:modified>
  <cp:revision>23</cp:revision>
  <dc:subject/>
  <dc:title>Snímek 1</dc:title>
</cp:coreProperties>
</file>